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972800" cy="73152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295200" cy="70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029120" cy="34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267160" y="0"/>
            <a:ext cx="4029120" cy="34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678040" y="525600"/>
            <a:ext cx="3942000" cy="262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39480" y="3328560"/>
            <a:ext cx="6816600" cy="3156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661080"/>
            <a:ext cx="4029120" cy="34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267160" y="6661080"/>
            <a:ext cx="4029120" cy="34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EAB7BD0-4C8E-4F2F-9CDC-78E79D58C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055"/>
          <p:cNvSpPr/>
          <p:nvPr/>
        </p:nvSpPr>
        <p:spPr>
          <a:xfrm>
            <a:off x="5267160" y="6661080"/>
            <a:ext cx="40291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273373B-C311-47FE-92E5-666E965F091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2676600" y="525600"/>
            <a:ext cx="3943440" cy="262872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1238400" y="3328560"/>
            <a:ext cx="6819840" cy="316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9065-E829-45B9-97D4-1BC00A23E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987408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360" y="4228200"/>
            <a:ext cx="987408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7E12-7FA6-4D0A-9A59-D9EA75933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08800" y="17064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360" y="42282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08800" y="42282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ECFE-2DAB-474D-A4A7-F9075A42A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317916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88000" y="1706400"/>
            <a:ext cx="317916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26280" y="1706400"/>
            <a:ext cx="317916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360" y="4228200"/>
            <a:ext cx="317916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88000" y="4228200"/>
            <a:ext cx="317916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26280" y="4228200"/>
            <a:ext cx="317916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73E2-5090-42B2-84E6-CE55C5EE0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360" y="1706400"/>
            <a:ext cx="9874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62CE-D5D0-433F-BABD-8591D19B5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9874080" cy="4827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E6A3-1A45-42C8-859F-D5C0EC890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4818240" cy="4827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08800" y="1706400"/>
            <a:ext cx="4818240" cy="4827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03E0-3532-42B8-82AB-576C234E1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2115-875A-4462-8D71-57F47F95F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360" y="293760"/>
            <a:ext cx="987408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4F20-ACAF-4E61-BAE0-739635F92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08800" y="1706400"/>
            <a:ext cx="4818240" cy="4827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360" y="42282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6E76-E4B2-4814-B51E-95AC10E5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4818240" cy="4827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08800" y="17064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08800" y="42282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1DAC-198F-4252-BAA0-6945D5C1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08800" y="17064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360" y="4228200"/>
            <a:ext cx="987408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0E6E-5BD7-4854-AF4F-F35E6E98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360" y="1706400"/>
            <a:ext cx="9874080" cy="4827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847800" indent="-32544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2" marL="1305000" indent="-2602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3" marL="1827360" indent="-26064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4" marL="2349360" indent="-26028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5" marL="2349360" indent="-26028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6" marL="2349360" indent="-26028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9360" y="6780240"/>
            <a:ext cx="2558880" cy="38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49760" y="6780240"/>
            <a:ext cx="3473280" cy="38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64560" y="6780240"/>
            <a:ext cx="2558880" cy="38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2DE23-589E-46AA-9876-E9A65DC31CBC}" type="slidenum">
              <a:rPr b="0" lang="en-US" sz="1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2733840" y="442800"/>
            <a:ext cx="72007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10850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 Black"/>
              </a:rPr>
              <a:t>GOVERNMENT OF IN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 Black"/>
              </a:rPr>
              <a:t>MINISTRY OF PORTS, SHIPPING &amp; WATER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 Black"/>
              </a:rPr>
              <a:t>DIRECTORATE GENERAL OF  LIGHTHOUSES &amp; LIGHTSHIP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rcRect l="1282" t="0" r="66511" b="47697"/>
          <a:stretch/>
        </p:blipFill>
        <p:spPr>
          <a:xfrm>
            <a:off x="4114800" y="2438280"/>
            <a:ext cx="1905120" cy="2433600"/>
          </a:xfrm>
          <a:prstGeom prst="rect">
            <a:avLst/>
          </a:prstGeom>
          <a:ln w="0">
            <a:noFill/>
          </a:ln>
        </p:spPr>
      </p:pic>
      <p:sp>
        <p:nvSpPr>
          <p:cNvPr id="51" name="TextBox 1"/>
          <p:cNvSpPr/>
          <p:nvPr/>
        </p:nvSpPr>
        <p:spPr>
          <a:xfrm>
            <a:off x="3099240" y="5715000"/>
            <a:ext cx="46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Aids to Navigation- An Upd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914400"/>
            <a:ext cx="9721800" cy="5943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just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New </a:t>
            </a:r>
            <a:r>
              <a:rPr b="1" lang="en-US" sz="5000" spc="-1" strike="noStrike">
                <a:solidFill>
                  <a:srgbClr val="000000"/>
                </a:solidFill>
                <a:latin typeface="Calibri"/>
              </a:rPr>
              <a:t>IVEF Compliant VTS Software </a:t>
            </a: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operational in VTS – Gulf of Kutch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VTS- Gulf of Kutch software was upgraded with update features and with IVEF format and became operational with all its features in the first quarter this year.</a:t>
            </a:r>
            <a:br>
              <a:rPr sz="5000"/>
            </a:b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6138000" y="1706400"/>
            <a:ext cx="285840" cy="4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930240" y="2090880"/>
            <a:ext cx="9347400" cy="14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380880" y="990720"/>
            <a:ext cx="10599840" cy="75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200" spc="-1" strike="noStrike">
                <a:solidFill>
                  <a:srgbClr val="002060"/>
                </a:solidFill>
                <a:latin typeface="Arial"/>
                <a:ea typeface="Arial"/>
              </a:rPr>
              <a:t>RTCM</a:t>
            </a:r>
            <a:r>
              <a:rPr b="0" lang="en-IN" sz="3200" spc="-1" strike="noStrike">
                <a:solidFill>
                  <a:srgbClr val="002060"/>
                </a:solidFill>
                <a:latin typeface="Arial"/>
                <a:ea typeface="Arial"/>
              </a:rPr>
              <a:t> (Radio Technical Commission for Maritime Services) Standards for </a:t>
            </a:r>
            <a:r>
              <a:rPr b="1" lang="en-IN" sz="3200" spc="-1" strike="noStrike">
                <a:solidFill>
                  <a:srgbClr val="002060"/>
                </a:solidFill>
                <a:latin typeface="Arial"/>
                <a:ea typeface="Arial"/>
              </a:rPr>
              <a:t>NavIC in DGNSS application</a:t>
            </a:r>
            <a:r>
              <a:rPr b="0" lang="en-IN" sz="3200" spc="-1" strike="noStrike">
                <a:solidFill>
                  <a:srgbClr val="002060"/>
                </a:solidFill>
                <a:latin typeface="Arial"/>
                <a:ea typeface="Arial"/>
              </a:rPr>
              <a:t>,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 officially released on RTCM website on April 28, 2020</a:t>
            </a:r>
            <a:r>
              <a:rPr b="0" lang="en-IN" sz="3200" spc="-1" strike="noStrike">
                <a:solidFill>
                  <a:srgbClr val="00206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  <a:ea typeface="Arial"/>
              </a:rPr>
              <a:t>Indian Regional Navigation Satellite System (IRNSS) recogn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The International Maritime Organization (IMO) has recognised the Indian Regional Navigation Satellite System (IRNSS) as a component of the World-Wide Radio Navigation System (WWRNS) for operation in the Indian Ocean Reg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380880" y="990720"/>
            <a:ext cx="10287000" cy="66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  <a:ea typeface="Arial"/>
              </a:rPr>
              <a:t>NavIC (IRNSS) is an independent regional navigation satellite system developed by India to provide accurate position information service to assist in the navigation of ships in Indian Ocean wat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During its 102nd session held virtually (4 to 11 November 2020), the  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Maritime Safety Committee (MSC) of IMO recognized the Indian Regional Navigation Satellite System (IRNSS) as a component of  the  World-wide  radio navigation 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533520" y="533520"/>
            <a:ext cx="10134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600" spc="-1" strike="noStrike">
                <a:solidFill>
                  <a:srgbClr val="0070c0"/>
                </a:solidFill>
                <a:latin typeface="Arial"/>
                <a:ea typeface="Arial"/>
              </a:rPr>
              <a:t>Establishment of new Lighthouse at Tajpur and Kuthenkul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2060"/>
                </a:solidFill>
                <a:latin typeface="Arial"/>
                <a:ea typeface="Arial"/>
              </a:rPr>
              <a:t>For easy identification of landmark and to provide seamless coverage of lighthouse along the Indian Coast two new Lighthouses at Tajpur and Kuthenkuli have been inaugurated this yea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2060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3400"/>
            <a:ext cx="9966240" cy="62593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just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libri"/>
              </a:rPr>
              <a:t>Aids to marine Navigation Act 2020</a:t>
            </a:r>
            <a:br>
              <a:rPr sz="5000"/>
            </a:b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Aids to marine Navigation 2020 superseding Lighthouse Act 1927 has been drafted into Bill and submitted for approval in Parliament.</a:t>
            </a:r>
            <a:br>
              <a:rPr sz="5000"/>
            </a:b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5"/>
          <p:cNvSpPr txBox="1"/>
          <p:nvPr/>
        </p:nvSpPr>
        <p:spPr>
          <a:xfrm>
            <a:off x="1905120" y="3048120"/>
            <a:ext cx="7010280" cy="2743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THANK  YOU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pic>
        <p:nvPicPr>
          <p:cNvPr id="60" name="Picture 6" descr="C LH3"/>
          <p:cNvPicPr/>
          <p:nvPr/>
        </p:nvPicPr>
        <p:blipFill>
          <a:blip r:embed="rId1"/>
          <a:stretch/>
        </p:blipFill>
        <p:spPr>
          <a:xfrm>
            <a:off x="9785520" y="0"/>
            <a:ext cx="1187280" cy="1300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5T04:43:41Z</dcterms:created>
  <dc:creator>abc</dc:creator>
  <dc:description/>
  <dc:language>en-US</dc:language>
  <cp:lastModifiedBy>ACER-PC</cp:lastModifiedBy>
  <cp:lastPrinted>2020-12-08T10:41:46Z</cp:lastPrinted>
  <dcterms:modified xsi:type="dcterms:W3CDTF">2020-12-08T10:46:04Z</dcterms:modified>
  <cp:revision>284</cp:revision>
  <dc:subject/>
  <dc:title>No Slide Title</dc:title>
</cp:coreProperties>
</file>